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1828-C0FE-40F8-A4F3-EAFEE08F1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6095-702B-4A1E-9E15-9800DAAD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9A38-FAE0-4433-A745-DFAE24AD0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82CF-B1EE-405C-A789-974CB6202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59EB-71F4-44FD-9C0D-59C2F2F7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A526-3693-49EC-AB1A-FFF35237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480F-65D1-44F7-8C5F-99F2A66A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1DE7-A3EA-45AE-A233-957C908E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FA7F-49BE-4090-9198-DA48DCB8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A153-4119-4655-94CB-389DCC28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CE25-E711-4E45-93AC-CAB698AD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BF0F-F0D8-41F2-8873-4276334A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3D6C-C865-4A52-910A-B5FE6234E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monografias.com/trabajos7/plane/plane.shtml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04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BASTECIMIENT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32360" y="1413000"/>
            <a:ext cx="32400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 una de las etapas o función logística llamada comúnmente “Cadena de Suministros”, mediante la cual se provee a una empresa de todo el material necesario para su funcionamien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te concepto implica incorporar en la definición de proceso todas aquellas actividades que se relacionan con la compra o contratación, desde la detección de necesidades hasta la extinción de la vida útil del bien o servic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rot="21403200">
            <a:off x="684360" y="2060640"/>
            <a:ext cx="38671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Esto sólo es una vista previa. Para descargar la plantilla, haga clic en el botón Descargar ahora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bjetivos específicos del abastecimiento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tener la continuidad del abastecimien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ar precios just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tar deterioros, duplicidades, desperdicios, etc., buscando calidad adecu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car fuentes de suministros, alternativas y localizar nuevos productos y mater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tener costos bajos en el departamento, sin desmejorar la actu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udiar e investigar nuevos procedimientos continuamente; preocuparse por la permanente capacitación del personal; y, mantener informado al gerente de logística o gerente general acerca de la marcha del departamen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Esto sólo es una vista previa. Para descargar la plantilla, haga clic en el botón Descargar ahora.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roceso de abastecimient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280" y="333000"/>
            <a:ext cx="37450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álculo de necesidad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mpra o adquisició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btención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macenamiento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spacho o distribución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ntrol de stock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tilización de desperdicio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7840" y="1700280"/>
            <a:ext cx="239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716360" y="1125360"/>
            <a:ext cx="30481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Esto sólo es una vista previa. Para descargar la plantilla, haga clic en el botón Descargar ahora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95280" y="4005360"/>
            <a:ext cx="8064360" cy="15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lasificación funciona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centra en la resolución de los problemas técnicos y orgánicos en el abastecimien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35280" y="981000"/>
            <a:ext cx="6624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uest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ículos de consum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Esto sólo es una vista previa. Para descargar la plantilla, haga clic en el botón Descargar ahora.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627280" y="260280"/>
            <a:ext cx="525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04040" y="215640"/>
            <a:ext cx="7875360" cy="11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asificación en el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laneamiento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logís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3080" y="1628640"/>
            <a:ext cx="6880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. Subsistencias, Víve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. Armas, vehículos, vestuar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I. Combustibles y lubrican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V. Repuest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. Munic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643280" y="3716280"/>
            <a:ext cx="288144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Esto sólo es una vista previa. Para descargar la plantilla, haga clic en el botón Descargar ahora.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547640" y="333360"/>
            <a:ext cx="21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7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32000" y="260280"/>
            <a:ext cx="614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alización de un ped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907920"/>
            <a:ext cx="808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erá iniciarlo a través de la ayuda directa de la Dirección de Abastecimientos de la Armada y comprar a través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9120" y="1865160"/>
            <a:ext cx="7724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Director de Abastecimientos es el responsable de legalizar las Órdenes de Compra conjuntamente con el Jefe del Departamento de Adquisicion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Direcciones Técnicas son las responsables de elaborar la Solicitud de Compra Local, especificaciones técnicas y legalizar las factur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Reparto Usuario es el responsable de elaborar el Pedido de Repuestos, y legalizar las facturas una vez recibido el material. La compra directa por intermedio de las Agregadurías nava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pecificaciones Técnicas y cantidad del requerimiento solici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aturaleza del pedido si es de trámite urgente o normal 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Jefe del Centro de Abastecimientos es el responsable de recibir el material y realiza la entrega al Reparto Usuario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Esto sólo es una vista previa. Para descargar la plantilla, haga clic en el botón Descargar ahora.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Unidad de abastecimiento militar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2920" y="980640"/>
            <a:ext cx="73659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VISIÓN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lanificar, coordinar, y ejecutar las actividades de almacenamiento del material de guerra común, lubricantes, partes y repuestos, para uso de la Fuerza Armada Nacional, así como controlar dicho abastecimien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ivisión de abastec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partamento de Almace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ecciones de Recepción y Despacho, Control y Existencia, Parque Nacion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rsen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uncion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bastecer el Material de Guerra Común a los Componentes de la F.A.N. y Dependencias del Ministerio de la Defensa, previa autorización del Director de Armamento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antener al día los requerimientos de abastecimiento de material de guerra comú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omar las acciones necesarias para mantener los niveles de reserva de Material de Guerra Común para suplir a la Fuerza Armada Nacional en caso necesario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ordinar el mantenimiento de todo el material almacenado en los Depósit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valuar las estadísticas del consumo de material de guerra común a efectos de planificación de las necesidades futur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TROS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22:10:22Z</dcterms:created>
  <dc:creator>Freddy </dc:creator>
  <dc:description/>
  <dc:language>en-US</dc:language>
  <cp:lastModifiedBy>Gabriela Contreras</cp:lastModifiedBy>
  <dcterms:modified xsi:type="dcterms:W3CDTF">2008-07-03T22:54:48Z</dcterms:modified>
  <cp:revision>3</cp:revision>
  <dc:subject/>
  <dc:title>ABASTECIMIENTO </dc:title>
</cp:coreProperties>
</file>